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41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58840" y="0"/>
            <a:ext cx="2954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05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41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58840" y="9443520"/>
            <a:ext cx="29545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3740-6C54-452B-B0B3-246E6B819C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Номер слайда 3"/>
          <p:cNvSpPr/>
          <p:nvPr/>
        </p:nvSpPr>
        <p:spPr>
          <a:xfrm>
            <a:off x="3859200" y="9443880"/>
            <a:ext cx="2954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21CE53-F745-4F0C-8962-4BE4F7B4120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2D9BE-CF64-40A5-AE47-C02F3647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F2797-E003-4B9D-B2F6-A29B1210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2DB4A-5BD0-4770-97F6-69DA803B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7985E-E5A2-4E72-AB86-3C7D9FF0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607BE-C311-4151-BF58-6B94785F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19F34-11A4-4EEA-8EB7-F03F1441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B2092-D6D9-4CC2-8B16-640D130E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8E74E-E692-463B-B4C9-687D5EE0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48971-5BF9-4E97-9F6E-7A86559A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D86FD-7E6E-4A85-972B-8F69DCBA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88A78-D0F1-42B0-9C26-842B8748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98719-CF0E-4A54-8634-B1B06A6C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2F5C5-CBBE-47E2-BC52-74092398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2C66D-6019-444F-834D-40BA6271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1B764-E1F8-459C-86E5-5B79B23E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58A8A-83AB-4A62-9858-B971ACEF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D7808-48A6-46C7-AC55-A6CDC95D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13172-0D30-4CDA-AC7D-1FAAF5F5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7E649-16BF-4D5A-B05C-C61766F2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8658F-2B0D-408F-9D55-FC50381D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C1A1D-65A8-44B8-AF0A-DDEA8151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706B1-152E-4FB7-B264-7085E110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BF6BA-7F0A-4F71-8EE7-81D9ED1B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8934E-F12B-4C78-807B-2E58A3AE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8D154-921D-45EA-99B2-1AC20857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1F802-0BDB-40A5-898A-C768E139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7998EB-0840-40C2-8BC2-78356D8E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A8B25C-ADDA-4ECA-A8C4-11079B26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27D54D-9DFA-47C0-BCAD-9A018B92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4FFAC0-A8CC-4DBD-8148-D5259910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86C88-27D6-4A88-9036-6D72263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D28D7D-912D-4117-9E2F-1B01EE31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093864-D511-4C46-9820-599C1056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84A52-90CA-48CE-8579-F8CBFE06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3DA49B-4F1F-4817-B380-A6AE3601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55C43-DDC1-47F2-B205-7C82FC80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E0177-CD49-424E-9D53-DB7D523D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40F7CC-CBB6-42A7-A0A5-938036CA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6AC584-3C5D-4147-A243-29E3E8BF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470C1-CB38-49AE-BA84-EF80C535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C0D3C-1DD8-4354-BD86-0B7EAEA4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CA7B1-8F2A-4673-B11E-91DD19F1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4E931-DB4D-42C1-AD65-811E6579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9350F-FA4F-4FBC-87E3-EFFAC307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16F95-8599-45FA-8B62-4EBFFA28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9DC32-3903-4704-B94D-729EFBED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52FCE-D879-496C-8911-486208BD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170DC-D2D4-42BB-AA03-0629CA1E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23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5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7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ftr" idx="29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ftr" idx="31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33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ftr" idx="35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6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21F7-1583-44E4-90E9-17A758FF7C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99CB-3B24-42DF-BECD-8A7748ACC60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6C47-CB64-4D65-A370-BFAD1358FAF2}" type="slidenum">
              <a: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6DE2-4EE4-4B6D-9863-2246CCE257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8173-F6BF-49DF-83D4-B478324D3A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5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7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9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21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3"/>
          <p:cNvSpPr/>
          <p:nvPr/>
        </p:nvSpPr>
        <p:spPr>
          <a:xfrm>
            <a:off x="3203640" y="587700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b2792"/>
                </a:solidFill>
                <a:latin typeface="Arial"/>
                <a:ea typeface="Arial"/>
              </a:rPr>
              <a:t>Екатеринбург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b2792"/>
                </a:solidFill>
                <a:latin typeface="Arial"/>
                <a:ea typeface="Arial"/>
              </a:rPr>
              <a:t>17</a:t>
            </a:r>
            <a:r>
              <a:rPr b="1" lang="ru-RU" sz="1600" spc="-1" strike="noStrike">
                <a:solidFill>
                  <a:srgbClr val="ab2792"/>
                </a:solidFill>
                <a:latin typeface="Arial"/>
                <a:ea typeface="Arial"/>
              </a:rPr>
              <a:t> февраля 2016 года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2" name="Text Box 11"/>
          <p:cNvSpPr/>
          <p:nvPr/>
        </p:nvSpPr>
        <p:spPr>
          <a:xfrm>
            <a:off x="2050920" y="115920"/>
            <a:ext cx="6553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b2792"/>
                </a:solidFill>
                <a:latin typeface="Arial"/>
                <a:ea typeface="Arial"/>
              </a:rPr>
              <a:t>Правительство Свердловской области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b2792"/>
                </a:solidFill>
                <a:latin typeface="Arial"/>
                <a:ea typeface="Arial"/>
              </a:rPr>
              <a:t>Министерство общего и профессионального образования Свердловской област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13" name="Прямая соединительная линия 5" descr=""/>
          <p:cNvPicPr/>
          <p:nvPr/>
        </p:nvPicPr>
        <p:blipFill>
          <a:blip r:embed="rId1"/>
          <a:stretch/>
        </p:blipFill>
        <p:spPr>
          <a:xfrm>
            <a:off x="396720" y="1017720"/>
            <a:ext cx="8393400" cy="298440"/>
          </a:xfrm>
          <a:prstGeom prst="rect">
            <a:avLst/>
          </a:prstGeom>
          <a:ln w="0">
            <a:noFill/>
          </a:ln>
        </p:spPr>
      </p:pic>
      <p:grpSp>
        <p:nvGrpSpPr>
          <p:cNvPr id="714" name="Прямоугольник с двумя скругленными противолежащими углами 7"/>
          <p:cNvGrpSpPr/>
          <p:nvPr/>
        </p:nvGrpSpPr>
        <p:grpSpPr>
          <a:xfrm>
            <a:off x="146160" y="1530360"/>
            <a:ext cx="8839080" cy="2949480"/>
            <a:chOff x="146160" y="1530360"/>
            <a:chExt cx="8839080" cy="2949480"/>
          </a:xfrm>
        </p:grpSpPr>
        <p:pic>
          <p:nvPicPr>
            <p:cNvPr id="715" name="Прямоугольник с двумя скругленными противолежащими углами 7" descr=""/>
            <p:cNvPicPr/>
            <p:nvPr/>
          </p:nvPicPr>
          <p:blipFill>
            <a:blip r:embed="rId2"/>
            <a:stretch/>
          </p:blipFill>
          <p:spPr>
            <a:xfrm>
              <a:off x="146160" y="1530360"/>
              <a:ext cx="883908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336600" y="1755720"/>
              <a:ext cx="8461440" cy="23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Arial"/>
                </a:rPr>
                <a:t>«Организация работы по проведению социально-психологического тестирования обучающихся в профессиональных и муниципальных образовательных организациях Свердловской области, направленного на раннее выявление незаконного потребления наркотических средств и психотропных веществ в 2014/2015 учебном году»</a:t>
              </a:r>
              <a:endParaRPr b="0" lang="en-US" sz="2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70436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18" name="Picture 7" descr=""/>
          <p:cNvPicPr/>
          <p:nvPr/>
        </p:nvPicPr>
        <p:blipFill>
          <a:blip r:embed="rId1"/>
          <a:stretch/>
        </p:blipFill>
        <p:spPr>
          <a:xfrm>
            <a:off x="826920" y="1150920"/>
            <a:ext cx="7632720" cy="5064120"/>
          </a:xfrm>
          <a:prstGeom prst="rect">
            <a:avLst/>
          </a:prstGeom>
          <a:ln w="0">
            <a:noFill/>
          </a:ln>
        </p:spPr>
      </p:pic>
      <p:sp>
        <p:nvSpPr>
          <p:cNvPr id="719" name="Содержимое 7"/>
          <p:cNvSpPr/>
          <p:nvPr/>
        </p:nvSpPr>
        <p:spPr>
          <a:xfrm>
            <a:off x="2195640" y="260280"/>
            <a:ext cx="65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Нормативные документы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"/>
          <p:cNvPicPr/>
          <p:nvPr/>
        </p:nvPicPr>
        <p:blipFill>
          <a:blip r:embed="rId1"/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21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94920" y="115920"/>
            <a:ext cx="8785080" cy="12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Количество обучающихся в образовательных организациях Свердловской области, принявших участие в тестирован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в 2014-2015 учебном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Диаграмма 6" descr=""/>
          <p:cNvPicPr/>
          <p:nvPr/>
        </p:nvPicPr>
        <p:blipFill>
          <a:blip r:embed="rId2"/>
          <a:stretch/>
        </p:blipFill>
        <p:spPr>
          <a:xfrm>
            <a:off x="4857840" y="2206800"/>
            <a:ext cx="3938400" cy="3030480"/>
          </a:xfrm>
          <a:prstGeom prst="rect">
            <a:avLst/>
          </a:prstGeom>
          <a:ln w="0">
            <a:noFill/>
          </a:ln>
        </p:spPr>
      </p:pic>
      <p:pic>
        <p:nvPicPr>
          <p:cNvPr id="724" name="Диаграмма 8" descr=""/>
          <p:cNvPicPr/>
          <p:nvPr/>
        </p:nvPicPr>
        <p:blipFill>
          <a:blip r:embed="rId3"/>
          <a:stretch/>
        </p:blipFill>
        <p:spPr>
          <a:xfrm>
            <a:off x="682560" y="2127240"/>
            <a:ext cx="4102200" cy="2895480"/>
          </a:xfrm>
          <a:prstGeom prst="rect">
            <a:avLst/>
          </a:prstGeom>
          <a:ln w="0">
            <a:noFill/>
          </a:ln>
        </p:spPr>
      </p:pic>
      <p:sp>
        <p:nvSpPr>
          <p:cNvPr id="725" name="Скругленный прямоугольник 1"/>
          <p:cNvSpPr/>
          <p:nvPr/>
        </p:nvSpPr>
        <p:spPr>
          <a:xfrm>
            <a:off x="611280" y="5229360"/>
            <a:ext cx="8137440" cy="129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  <a:ea typeface="Arial"/>
              </a:rPr>
              <a:t>СПО –</a:t>
            </a:r>
            <a:r>
              <a:rPr b="1" lang="ru-RU" sz="3200" spc="-1" strike="noStrike">
                <a:solidFill>
                  <a:srgbClr val="000066"/>
                </a:solidFill>
                <a:latin typeface="Georgi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Georgia"/>
                <a:ea typeface="Arial"/>
              </a:rPr>
              <a:t>учреждения среднего профессионального образования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  <a:ea typeface="Arial"/>
              </a:rPr>
              <a:t>МОО –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Georgia"/>
                <a:ea typeface="Arial"/>
              </a:rPr>
              <a:t>муниципальные образовательные организаци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7" name="AutoShape 4"/>
          <p:cNvSpPr/>
          <p:nvPr/>
        </p:nvSpPr>
        <p:spPr>
          <a:xfrm>
            <a:off x="611280" y="1557360"/>
            <a:ext cx="7921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28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29" name="Прямоугольник 7"/>
          <p:cNvSpPr/>
          <p:nvPr/>
        </p:nvSpPr>
        <p:spPr>
          <a:xfrm>
            <a:off x="2050920" y="33336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Georgia"/>
                <a:ea typeface="Arial"/>
              </a:rPr>
              <a:t>Локальные акты, разработанные  для обработки результатов</a:t>
            </a:r>
            <a:r>
              <a:rPr b="0" lang="ru-RU" sz="1800" spc="-1" strike="noStrike">
                <a:solidFill>
                  <a:srgbClr val="4f81bd"/>
                </a:solidFill>
                <a:latin typeface="Georgia"/>
                <a:ea typeface="Arial"/>
              </a:rPr>
              <a:t> </a:t>
            </a:r>
            <a:r>
              <a:rPr b="1" lang="ru-RU" sz="1800" spc="-1" strike="noStrike">
                <a:solidFill>
                  <a:srgbClr val="4f81bd"/>
                </a:solidFill>
                <a:latin typeface="Georgia"/>
                <a:ea typeface="Arial"/>
              </a:rPr>
              <a:t>социально-психологического тестирования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30" name="Picture 13" descr=""/>
          <p:cNvPicPr/>
          <p:nvPr/>
        </p:nvPicPr>
        <p:blipFill>
          <a:blip r:embed="rId2"/>
          <a:stretch/>
        </p:blipFill>
        <p:spPr>
          <a:xfrm>
            <a:off x="539640" y="1319040"/>
            <a:ext cx="8209080" cy="49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285480" y="1714320"/>
            <a:ext cx="864396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Цель - выявление наиболее действенных факторов риска и защиты, влияющих на вероятность приобщения подростков к сфере потребления наркотиков и связанных с этим пробл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В качестве факторов риска и защиты представле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 общий уровень ри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индивидуальн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семейн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среда сверс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общесоциальн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«школьные»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Прямоугольник 6"/>
          <p:cNvSpPr/>
          <p:nvPr/>
        </p:nvSpPr>
        <p:spPr>
          <a:xfrm>
            <a:off x="826920" y="16992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Анкета В.Г. Латышева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Arial"/>
              </a:rPr>
              <a:t>«Исходная оценка наркотизации»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-324000" y="115920"/>
            <a:ext cx="9180720" cy="6883200"/>
          </a:xfrm>
          <a:prstGeom prst="rect">
            <a:avLst/>
          </a:prstGeom>
          <a:ln w="0">
            <a:noFill/>
          </a:ln>
        </p:spPr>
      </p:pic>
      <p:sp>
        <p:nvSpPr>
          <p:cNvPr id="736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7" name="Прямоугольник 6"/>
          <p:cNvSpPr/>
          <p:nvPr/>
        </p:nvSpPr>
        <p:spPr>
          <a:xfrm>
            <a:off x="324000" y="214200"/>
            <a:ext cx="81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Распределение обучающихся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в образовательных организациях Свердловской области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по уровням риск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38" name="Диаграмма 2" descr=""/>
          <p:cNvPicPr/>
          <p:nvPr/>
        </p:nvPicPr>
        <p:blipFill>
          <a:blip r:embed="rId2"/>
          <a:stretch/>
        </p:blipFill>
        <p:spPr>
          <a:xfrm>
            <a:off x="-663480" y="2441520"/>
            <a:ext cx="6222960" cy="3846600"/>
          </a:xfrm>
          <a:prstGeom prst="rect">
            <a:avLst/>
          </a:prstGeom>
          <a:ln w="0">
            <a:noFill/>
          </a:ln>
        </p:spPr>
      </p:pic>
      <p:sp>
        <p:nvSpPr>
          <p:cNvPr id="739" name="Прямоугольник 1"/>
          <p:cNvSpPr/>
          <p:nvPr/>
        </p:nvSpPr>
        <p:spPr>
          <a:xfrm>
            <a:off x="108000" y="1658880"/>
            <a:ext cx="46800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Georgia"/>
                <a:ea typeface="Times New Roman"/>
              </a:rPr>
              <a:t>Распределение обучающихся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Georgia"/>
                <a:ea typeface="Times New Roman"/>
              </a:rPr>
              <a:t>в профессиональных образовательных организациях по уровням риска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0" name="Прямоугольник 2"/>
          <p:cNvSpPr/>
          <p:nvPr/>
        </p:nvSpPr>
        <p:spPr>
          <a:xfrm>
            <a:off x="4500720" y="1844640"/>
            <a:ext cx="446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Georgia"/>
                <a:ea typeface="Times New Roman"/>
              </a:rPr>
              <a:t>Распределение обучающихся в муниципальных общеобразовательных организациях по уровням риска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41" name="Объект 3" descr=""/>
          <p:cNvPicPr/>
          <p:nvPr/>
        </p:nvPicPr>
        <p:blipFill>
          <a:blip r:embed="rId3"/>
          <a:stretch/>
        </p:blipFill>
        <p:spPr>
          <a:xfrm>
            <a:off x="3944880" y="2370240"/>
            <a:ext cx="5286600" cy="3701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"/>
          <p:cNvPicPr/>
          <p:nvPr/>
        </p:nvPicPr>
        <p:blipFill>
          <a:blip r:embed="rId1"/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43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826920" y="357120"/>
            <a:ext cx="7601040" cy="7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Сравнение факторов р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5" name="Диаграмма 7"/>
          <p:cNvGraphicFramePr/>
          <p:nvPr/>
        </p:nvGraphicFramePr>
        <p:xfrm>
          <a:off x="0" y="1422360"/>
          <a:ext cx="9144000" cy="5461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6" name="Диаграмма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22360"/>
                    <a:ext cx="914400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"/>
          <p:cNvPicPr/>
          <p:nvPr/>
        </p:nvPicPr>
        <p:blipFill>
          <a:blip r:embed="rId1"/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48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826920" y="357120"/>
            <a:ext cx="7601040" cy="7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Сравнение факторов р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50920" y="1484280"/>
          <a:ext cx="8642160" cy="4070520"/>
        </p:xfrm>
        <a:graphic>
          <a:graphicData uri="http://schemas.openxmlformats.org/drawingml/2006/table">
            <a:tbl>
              <a:tblPr/>
              <a:tblGrid>
                <a:gridCol w="287280"/>
                <a:gridCol w="1982880"/>
                <a:gridCol w="1763640"/>
                <a:gridCol w="1871640"/>
                <a:gridCol w="1297080"/>
                <a:gridCol w="1439640"/>
              </a:tblGrid>
              <a:tr h="1527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Управленческий округ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Количество муниципальных образовательных организаций (штук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Общее число обучающихся, подлежащих участию в тестировании в возрасте от 14 до 18 лет (человек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Общее число участников тестирования (человек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Могут быть отнесены к группе риска (человек/ %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Северный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2 03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1 08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58/4,2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Восточный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2 15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0 38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75/3,6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Горнозаводско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7 96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 77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88/2,3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Западны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 65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3 98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00/2,2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Южны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1 4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0 5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670/6,4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Березовски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Арамильский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Сысертски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Режевско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8 15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6 8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138/5,8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Г. Екатерин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3 2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2 57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94/5,2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1" name="Rectangle 5"/>
          <p:cNvSpPr/>
          <p:nvPr/>
        </p:nvSpPr>
        <p:spPr>
          <a:xfrm>
            <a:off x="395280" y="5807880"/>
            <a:ext cx="835344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Georgia"/>
                <a:ea typeface="Arial"/>
              </a:rPr>
              <a:t>Показатель для определения группы риска взят по среднему уровню риска и отражает  отсутствие самоопределения в жизни у обучающихся. 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Georgia"/>
                <a:ea typeface="Arial"/>
              </a:rPr>
              <a:t>Среднеобластной показатель по среднему уровню риска – 4,2%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53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4" name="Rectangle 2"/>
          <p:cNvSpPr/>
          <p:nvPr/>
        </p:nvSpPr>
        <p:spPr>
          <a:xfrm>
            <a:off x="468360" y="260280"/>
            <a:ext cx="8746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Georgia"/>
                <a:ea typeface="Times New Roman"/>
              </a:rPr>
              <a:t>Основные направления работы с подростками «группы риска»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179280" y="1557360"/>
            <a:ext cx="8964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еятельность  общеобразовательной   организаци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ыявление обучающихся, склонных к нарушению дисциплины, к совершению правонарушений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пределение причин отклонений в поведении и нравственном развитии подростков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оставление плана педагогической коррекции личности подростка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овлечение учащихся в различные виды положительно-активной социальной деятельности и обеспечение успеха в ней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зменение условий семейного воспитания (исходя из возможностей образовательного учреждения) с использованием служб и ведомств системы профилактик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ндивидуально-профилактическая работа с подросткам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беседы, консультации, тренинги, занятия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росветительская и информационная деятельность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семейное консультирование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ривлечение родителей для совместной организации досуговой деятельности подростков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создание комфортных условий в семье для развития личности подростка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осуговая деятельнос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овлечение в систему дополнительного образования, в мероприятия воспитательной направленност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9:38:33Z</dcterms:created>
  <dc:creator>LENOVO USER</dc:creator>
  <dc:description/>
  <dc:language>en-US</dc:language>
  <cp:lastModifiedBy>Ефимова</cp:lastModifiedBy>
  <cp:lastPrinted>2016-02-16T14:45:52Z</cp:lastPrinted>
  <dcterms:modified xsi:type="dcterms:W3CDTF">2016-04-08T07:23:16Z</dcterms:modified>
  <cp:revision>219</cp:revision>
  <dc:subject/>
  <dc:title>Презентация PowerPoint</dc:title>
</cp:coreProperties>
</file>